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38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38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52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1164F-885E-4222-8161-D952309E9A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FA9D-6F1B-48EC-81EF-7D0B1701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355F-C25F-4EEC-801F-28F495C8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A6BC-F030-417C-BDA0-BF15F851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2812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990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2812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990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BC22-03E9-45B5-93F0-15D3FCD9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2F93-92B6-418F-A78D-D69AFE41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AF7E-E2E8-4715-9387-87209BA8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A72F-241D-4DC5-9C60-58660571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3DA7-E1CB-4B5C-BE5F-45528EEA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6D2D-16B9-4F07-A728-25B56AA0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96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3969-6CA7-4824-AB39-4CC8D330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6796-B4F0-4BF8-A95A-955B0391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93B-2D54-49FC-9417-FA3EFD93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C3A9-79B8-42AD-9797-3CE2999F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16F9-1856-47CE-8DF6-60627831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CDE1-C219-4439-BA42-71C62AA5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12CB-590F-477E-B714-04F6864F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2812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990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2812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990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294F-2708-40F0-AA63-DA946216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11B-C620-4639-A729-7A4AF6B8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080D-2E2A-488E-AD32-3B94DCD0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B87-9FAD-4E90-8DD6-A269EBA6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96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992-4B78-4F0C-9B09-272B09C7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6FC4-4F69-4140-967F-87EF1377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BA4-9F04-4526-815E-289920A7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19B-2D2B-4690-AB8E-40DAC91D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360" y="304920"/>
            <a:ext cx="7611840" cy="1104480"/>
            <a:chOff x="1071360" y="304920"/>
            <a:chExt cx="7611840" cy="1104480"/>
          </a:xfrm>
        </p:grpSpPr>
        <p:sp>
          <p:nvSpPr>
            <p:cNvPr id="1" name=""/>
            <p:cNvSpPr/>
            <p:nvPr/>
          </p:nvSpPr>
          <p:spPr>
            <a:xfrm flipH="1">
              <a:off x="4867920" y="304920"/>
              <a:ext cx="110448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0160" y="304920"/>
              <a:ext cx="11030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000" y="306000"/>
              <a:ext cx="110268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1600" y="304920"/>
              <a:ext cx="110304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720" y="304920"/>
              <a:ext cx="110304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623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83944-C013-4E27-929D-A41AED59A8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5320" cy="3198600"/>
            <a:chOff x="1658520" y="1600200"/>
            <a:chExt cx="6835320" cy="3198600"/>
          </a:xfrm>
        </p:grpSpPr>
        <p:sp>
          <p:nvSpPr>
            <p:cNvPr id="48" name=""/>
            <p:cNvSpPr/>
            <p:nvPr/>
          </p:nvSpPr>
          <p:spPr>
            <a:xfrm flipH="1">
              <a:off x="6970320" y="160020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0400" y="160020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120" y="1600200"/>
              <a:ext cx="152352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120" y="327564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564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0320" y="3275640"/>
              <a:ext cx="152316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623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433FBED-E8D0-4AA9-86C8-1DFB9DD99F1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389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196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86920" y="3933720"/>
            <a:ext cx="727236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Modul št. 2/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PRIMER OBLIKOVANJA NOVEGA POKLICNEGA PROFILA ( POMELA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Alenka STUPAR, univ, dipl. so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21. sept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940360" y="83664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iprava pobu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86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opi tipičnih del v poklicu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na potreb na trgu dela glede na                                                                                    dolgoročni razvoj gospodarstva oz.                                                                                     dejavnosti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na podlaga oz. predpisi v SLO in                                                                            državah EU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narodna primerljivost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kovalci pobude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likovanje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 in koda poklica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ven zahtevnosti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licne kompetence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s poklicnega standa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pis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56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ročja dela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jučna dela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nja in spretnosti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aloge za dokazovanja usposobljen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liza kataloga Pletar 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( Priloga: Katalog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1160" cy="47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ročja dela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 in naloge (ključna dela)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nja in spretnosti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loge za dokazovanje usposoblje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loga: Identifikacija novih poklicnih                                                                           profil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1160" cy="70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irajte 3 nove poklicne profile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berite enega glede na perspektivnost                                                                    dejavnosti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ite Pobudo za oblikovanje                                                                              poklicnega  standarda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kujte poklicni standard (raven                                                                                        zahtevnosti, poklicne kompetence,                                                                                    opis poklicnega standarda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hodišča za oblikovanje novega poklicneg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2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12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iran projekt za realizacijo že                                                                                     zastavljene iniciative lokalne skupnosti za                                                                        razvoj perspektivnih dejavnosti na osnovi                                                                           lokalnih razvojnih potencialov – tradicije                                                                             domače obrti (lončarstvo – pletarstvo)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2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irane potrebe po novih znanjih in                                                                            spretnostih za opravljanje dejavnosti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hodišča za oblikovanje novega poklicneg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2600" cy="83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elani programi usposabljanj (za pletenje                                                                                                                                            izdelkov iz ličja in oblikovanja in gline)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postavljena in delujoča učna delovanica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Nacionalnih poklicnih kvalifikacijah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riteriji za izbor novih poklicnih profil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pektivnost dejavnosti glede na nove potrebe trga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tevilo potencialnih kandidatov za NPK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cija na področju izdelovanja izdelkov domačih obrti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spektivnost dejavnos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8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ponudbe in povpraševanja po                                                                                izdelkih naravnih materialov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 trendi na področju uporabe naravnih                                                                           materialov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 trendi na področju razvoja podeželja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upni servis za razvoj in trženje izdelkov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liza človeških vi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5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očitev kriterijev za izbor ciljne skupine                                                                           (BO, podzaposleni, končana OŠ ali brez,                                                                          lastnik/najemnik  zemlje)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ciljne skupine brezposelnih oseb na                                                                      podeželju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ciljne skupine podzaposlenih na                                                                             podeželju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dicija domače obr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116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delujočih izdelovalcev izdelkov                                                                               iz naravnih materialov v Prekmurju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kacija znanj in spretnosti s področja                                                                         domačih obrti pri lokalnem prebivalstvu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kacija morebitnih programov                                                                                     usposabljanj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brana nova poklicn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19280"/>
            <a:ext cx="82170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tar/pletarka iz ličja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čar/lončar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opek oblikovanja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713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a pobude (pobudo je pripravil                                                                                   nosilec projekta)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novanje delovne skupine za pripravo                                                                        kataloga standardov strokovnih znanj in                                                                             spretnosti (sodelovanje različnih strok)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kovni sodelavec s strani CPI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a Kataloga standardov strokovnih                                                                            znanj in spretnosti za PK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ditev na Strokovnem svetu RS za                                                                                 poklicno in strokovno izobraževanje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na Kociper</cp:lastModifiedBy>
  <dcterms:modified xsi:type="dcterms:W3CDTF">2007-10-03T12:12:44Z</dcterms:modified>
  <cp:revision>7</cp:revision>
  <dc:subject/>
  <dc:title>Modul št. 2/b PRIMER OBLIKOVANJA NOVEGA POKLICNEGA PROFILA ( POMELAJ) Alenka STUPAR, univ, dipl. soc.  21. september 2007</dc:title>
</cp:coreProperties>
</file>